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FF977-619C-496A-906E-AAB56B68E3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1B5BF-1FEC-4C60-A06C-B66994D3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81BA6-CDC3-4D6C-9FDF-ECBFD367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CEA80-20B6-4F64-A0AD-CE4E85EF2B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73F51-E5B9-4778-82C2-4C6F7974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B32B8-2949-4E70-B8F1-39A192A8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0D50C-EBDF-4716-9C28-BA860EFA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BDCFA-FE56-4084-983E-6E9179E7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2630A-5D7C-42E9-8DA6-703988E1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56BEB-3BF3-4238-A10D-DB6C667C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82335-12D9-4739-874F-ADF3DD6F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8AE53-79EF-4950-A786-DF6E7FB5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0A14-74B5-4D97-8EF6-6297413B72C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精神失常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氯丙嗪口服易吸收，但吸收不规则，个体差异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口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用于精神分裂症和精神障碍，开始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最高剂量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肌内或静脉注射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用于精神分裂症和精神障碍病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亦可静脉滴注。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58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主要有口干、上腹部不适、食欲减退、乏力、嗜睡、心悸、便秘、视物不清、粒细胞减少、体位性低血压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泌乳、乳房肿大、肥胖、闭经、男性性功能减退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过敏反应，常见有皮疹、接触性皮炎、剥脱性皮炎、哮喘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胆汁郁积性黄疸、肝功能损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帕金森病和锥体外系症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见心电图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Q-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间期延长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波异常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静注时可发生血栓性静脉炎，肌注部位易产生硬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禁忌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对本品过敏、昏迷患者、肝肾功能严重不全者及孕妇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明显抑制、原发性癫痫病史、冠心病、高血压伴明显动脉硬化、尿毒症、大脑有器质性病变者禁用或慎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有前列腺肥大或青光眼者不宜使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068720" y="4064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412640"/>
            <a:ext cx="86104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防止直立性低血压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意识障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在用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或因用药剂量增加过快，或因多种药物合用，可能发生意识障碍，应及时报告医生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用药应定期检查肝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静滴时应经常测体温、心率和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岁以内小儿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大量用药可以引起锥体外系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眼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角膜和晶状体混浊、眼内压升高等。青光眼者禁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292720" y="404640"/>
            <a:ext cx="37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以引起药源性抑郁状态，用药时须注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刺激性大，静脉注射时可引起血栓性静脉炎，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肌内注射局部疼痛较重，可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普鲁卡因作深部肌内注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静注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，静滴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％葡萄糖或生理盐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0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稀释，滴速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6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/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分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肝功能不全者、尿毒症及高血压者、冠心病者慎用，肝功能严重减退、有过敏史者、癫痫患者、昏迷者禁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284720" y="404640"/>
            <a:ext cx="47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利达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rid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奋乃静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erphen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普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lorprothixe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lo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lu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啶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aloperida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必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ulpiri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300720" y="404640"/>
            <a:ext cx="27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氯氮平（</a:t>
            </a:r>
            <a:r>
              <a:rPr b="1" lang="en-US" sz="2400" spc="-1" strike="noStrike">
                <a:solidFill>
                  <a:srgbClr val="050da6"/>
                </a:solidFill>
                <a:latin typeface="Verdana"/>
                <a:ea typeface="宋体"/>
              </a:rPr>
              <a:t>clozapine</a:t>
            </a: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苯二氮卓类广谱抗精神病药，具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多受体阻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，对脑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羟色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和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强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也有阻滞作用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弱，此外还有抗胆碱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抗组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及抗肾上腺素受体作用，极少见锥体外系反应，一般不引起血中泌乳素增高。能直接抑制脑干网状结构上行激活系统，具有强大镇静催眠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由于本品可引起粒细胞减少，通常不作为精神分裂症的首选，只有其他抗精神病药物无效时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49800" y="333360"/>
            <a:ext cx="38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非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19808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迅速、完全，可通过血脑屏障，蛋白质结合率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口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达血药浓度高峰，单一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消除时间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开始一次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，然后每日增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如耐受性好，在开始治疗的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末将一日剂量增至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维持量为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岁以下儿童不宜使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895000" y="2080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镇静作用强和抗胆碱能不良反应较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引起心电图异常改变，可引起脑电图改变或癫痫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也可引起血糖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严重不良反应为粒细胞缺乏症及继发性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处于明显抑制状态、曾有骨髓抑制或血细胞异常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闭角型青光眼、前列腺增生、痉挛性疾病、心血管病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出现过敏性皮疹及恶性综合征应立即停药并进行相应的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抑制状态者慎用。尿潴留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治疗头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月内应坚持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检查白细胞计数及分类，以后定期检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肝功能与心电图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血糖，避免发生糖尿病或酮症酸中毒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不宜驾驶车辆、操作机械或高空作业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出现不明原因发热，应暂停用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0" y="333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利培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奥氮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lan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喹硫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ueti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齐拉西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ipraz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阿立哌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ipipraz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舍吲哚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ind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292720" y="4618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60720" y="44280"/>
            <a:ext cx="237492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典型抗精神病药与非典型抗精神病药的作用机制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氯丙嗪、氯氮平的临床应用、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各类抗抑郁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碳酸锂的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苯二氮卓类抗焦虑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抗抑郁药物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典型与非典型抗精神病药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典型抗精神病药的分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五氟利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penflurido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本品为二苯丁基哌啶类的衍生物，作用与吩噻嗪类相似，具有强大的抗精神病作用，亦有镇吐作用和阻断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受体的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对精神分裂症各型均有确切的疗效，控制幻觉、妄想、淡漠、退缩等症状效果较好。主要用于慢性精神分裂症患者的维持治疗，对急性精度分裂症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508720" y="3920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长效制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口服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到血药峰值，药物进入脂肪组织并缓慢释放，作用强大持久，可维持几天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左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以后依据病情逐渐加至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主要不良反应为锥体外系反应，少数病例可有转氨酶一过性升高，个别有皮疹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基底神经节病变、帕金森病、帕金森综合征、骨髓抑制患者以及对本品过敏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003640" y="404640"/>
            <a:ext cx="38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长效制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氟奋乃静癸酸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luphenazine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氟哌啶醇癸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aloperidol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哌普噻嗪棕榈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ipothiazine palmit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注射用利培酮微球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dal constat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抗抑郁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c068a"/>
                </a:solidFill>
                <a:latin typeface="Verdana"/>
                <a:ea typeface="宋体"/>
              </a:rPr>
              <a:t>案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学生，感觉生活很无聊，常常有莫名的压抑和痛苦，对什么都提不起兴趣。晚上睡不着，即使睡着了也睡不实。成天唉声叹气，闷闷不乐，常常责备自己，活得很累。由于长期莫名其妙的压抑痛苦，对一切了无兴趣，情绪越来越低落，觉着活着没意思。反应迟钝，行动迟缓，话也很少。问他原因又答不出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院实验室检查无异常，医疗诊断为抑郁症，并给予舍曲林治疗，口服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剪去单角的矩形 6"/>
          <p:cNvSpPr/>
          <p:nvPr/>
        </p:nvSpPr>
        <p:spPr>
          <a:xfrm>
            <a:off x="357120" y="5445000"/>
            <a:ext cx="8001000" cy="9129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应用的是哪类抗抑郁药物？该药物的临床应用情况及不良反应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26972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ntidepressant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是主要用于治疗抑郁症状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一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TCA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及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二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选择性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/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N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去甲肾上腺素及特异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aSS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上常用的抗抑郁药物按化学结构和作用机制，通常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TCA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环类抗抑郁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MAO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SR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和去甲肾上腺素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NRI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剪去单角的矩形 6"/>
          <p:cNvSpPr/>
          <p:nvPr/>
        </p:nvSpPr>
        <p:spPr>
          <a:xfrm>
            <a:off x="53964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其中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SRIs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NRI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占临床使用的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％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阿米替林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mitriptyli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抗抑郁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为最常用的三环类抗抑郁药物，能改善或消除抑郁状态，系通过阻断脑内神经元突触前膜，阻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再摄取，增加了突触间去甲肾上腺素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含量，并促进突触后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敏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镇静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能抗组胺而有较强的镇静作用，可同时治疗抑郁症患者的失眠。因抗胆碱作用而产生体内相应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型抑郁症和抑郁状态，对内因性及更年期抑郁症疗效较好，对反应性抑郁症及神经症的抑郁状态也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359600" y="282600"/>
            <a:ext cx="1536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三环类抗抑郁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TC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4136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其镇静作用和抗胆碱作用强于米帕明。口服吸收完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达到血药高峰浓度，经肝代谢。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排泄较慢，停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仍可以从尿中检测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抑郁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服。维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老年人和青少年每日少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或夜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小儿遗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睡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前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0" y="333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神经精神方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轻度时可有嗜睡、乏力、软弱等反应。可能会诱发癫痫，引起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对自主神经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常见有口干、便秘、瞳孔扩大、视物模糊、头晕、排尿困难等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对心血管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对心脏病患者可产生心律不齐、传导阻滞，严重时发生室颤或心搏骤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光眼加剧病情，应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心脏病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情况应慎用：支气管哮喘；癫痫症；青光眼；肝功能损伤；甲亢；前列腺肥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58180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2252520"/>
            <a:ext cx="396072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精神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躁狂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焦虑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1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8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老年患者要防止直立性低血压所致摔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因为老年人代谢与排泄均下降，对本类药的敏感性增强，用量一定要减小，并注意检测血压和心律，防止跌倒等意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孕妇、哺乳期妇女应慎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注意癫痫的发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可降低抽搐阈值，可能会诱发癫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用三环抗抑郁药出现心律失常时，勿用一般常用的抗心律失常药，如普鲁卡因酰胺和奎尼丁，因此类药会延长心内传导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可用利多卡因，心得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580000" y="4046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丙咪嗪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imiprq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米帕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多塞平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oxep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多虑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噻奈普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ianept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445080" y="404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马普替林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protilin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 又称：路滴美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diom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品为四环类抗抑郁药，能抑制外周和中枢神经对去甲肾上腺素的再摄取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再摄取无影响。除抗抑郁作用外，还有较强的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治疗各型抑郁症，老年性抑郁症患者尤为适用。较三环类抗抑郁药起效快，一周内即可以显效。不会引起兴奋、攻击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521080" y="37800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四环类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服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峰值。经肝代谢，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主要活性代谢产物的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代谢产物主要经肾排泄，少量经胆汁排泄。也可经乳汁分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，初始量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加到治疗量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最大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因半衰期长，也可晚间一次给予。严重抑郁症可注射给药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开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稀释后静滴，可渐增至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病情稳定后即改为口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076720" y="333360"/>
            <a:ext cx="38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本品的不良反应与三环类相似，但是少而轻。常见口干、便秘、视物模糊、嗜睡、眩晕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皮肤过敏发生率较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易诱发或加重癫痫发作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患者或有惊厥史者以及急性心肌梗死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青光眼、前列腺肥大、心肝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643280" y="333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药宜逐渐减量，不可骤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及哺乳妇女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老年人应酌情减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密切观察患者有无发热、咽喉疼痛、白细胞计数等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3640" y="1269720"/>
            <a:ext cx="8591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曲唑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razodo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四环结构的三唑吡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米安色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anser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四环类抗抑郁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508720" y="333360"/>
            <a:ext cx="35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分为两类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及酪胺；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B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特别是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可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浓度，起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属非环类抗抑郁药，副作用和毒性较严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目前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已不常用，只用于那些对其他抗抑郁药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EC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效的患者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不可与其他类抗抑郁药联用或合用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新一代的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有吗氯贝胺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399560" y="257040"/>
            <a:ext cx="17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单胺氧化酶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AOI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品为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选择性、可逆性地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型单胺氧化酶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提高脑内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水平，发挥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适用于内源性、反应性抑郁症和轻度慢性抑郁症的长期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484360" y="404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吗氯贝胺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eclobemid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127160"/>
            <a:ext cx="861048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迅速，分布广泛，几乎全部自肝脏代谢，半衰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，代谢较快。代谢物及少量原型物经肾排泄，部分经乳汁分泌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饭后服用，常用量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最大用量不超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老年人适当减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03936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7527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抗精神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371240"/>
            <a:ext cx="885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药可以分为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典型抗精神病药、非典型抗精神病药及其长效制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的抗精神病作用主要通过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阻断多巴胺受体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非典型抗精神病药物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除了对多巴胺系统有抑制作用外，还对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系统有明显的抑制作用，尤其是阻断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 baseline="-25000">
                <a:solidFill>
                  <a:srgbClr val="e50101"/>
                </a:solidFill>
                <a:latin typeface="宋体"/>
                <a:ea typeface="宋体"/>
              </a:rPr>
              <a:t>2A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受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见有睡眠障碍、头晕、头痛、口干、震颤、恶心、出汗、心悸等。偶见震颤、可逆性意识模糊、皮疹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儿童、甲状腺功能亢进、精神分裂症、嗜铬细胞瘤患者禁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、肝功能不全、孕妇、哺乳期妇女、司机及机械操作者慎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疗监护须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治疗期间不可饮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本品期间，避免进食奶酪、发酵豆制品等富含酪胺的食物，因酪胺在体内蓄积会导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危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100200" y="25704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S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类药能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选择性地抑制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再摄取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使突触间隙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含量升高而达到治疗抑郁目的。对去甲肾上腺素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组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(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乙酰胆碱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作用轻微，故不良反应较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疗效与三环类相当，且安全有效、耐受性好，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为一线抗抑郁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物“五朵金花”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氟西汀（百忧解）、帕罗西汀（赛乐特）、氟伏沙明（兰释）、舍曲林（左洛复）、西酞普兰（喜普妙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苯丙胺衍生物，是强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药，而对去甲肾上腺素影响很小，易通过血脑屏障进入中枢神经系统。抗抑郁症的疗效三环类相当，不良反应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用于治疗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伴有焦虑的各种抑郁症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尤其适用于老年抑郁症，还可用于治疗强迫症、恐惧症和神经性贪食。目前氟西汀已成为国际上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“金标准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991760" y="333360"/>
            <a:ext cx="4032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氟西汀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luoxet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好，生物利用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高峰。氟西汀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天，经肝脏代谢产物去甲氟西汀也有抗抑郁作用，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抗抑郁常用剂量为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需要时可增至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神经性贪食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强迫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895000" y="27936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610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一）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良反应较轻，大剂量时耐受性好。常见的不良反应有失眠、恶心、易激动、头痛、运动性焦虑等，偶有皮疹。长期应用可有食欲减退、性功能下降。大剂量应用时可有精神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二）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癫痫患者，孕妇、哺乳期妇女及儿童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1636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与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合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因为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用时可致“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表现为：恶心、体温升高、精神错乱、自主神经系统功能紊乱、震颤、肌强直、痉挛，严重时昏迷、死亡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氟西汀换用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时应间隔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避免发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发生时可采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阻断剂赛庚啶、肌肉松弛药、氯丙嗪，以及降温、止惊等措施抢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功能不良者可隔日给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因本品半衰期长，应用时要控制剂量，防止蓄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帕罗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r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赛乐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舍曲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ral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左洛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zoloft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氟伏沙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fluvoxamine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兰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西酞普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citalopram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喜普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艾司西酞普兰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scitalop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651640" y="404640"/>
            <a:ext cx="32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126972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文拉法辛（</a:t>
            </a:r>
            <a:r>
              <a:rPr b="1" lang="en-US" sz="2800" spc="-1" strike="noStrike">
                <a:solidFill>
                  <a:srgbClr val="050da6"/>
                </a:solidFill>
                <a:latin typeface="宋体"/>
                <a:ea typeface="宋体"/>
              </a:rPr>
              <a:t>venlafaxine</a:t>
            </a: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）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又称：博乐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二环结构。是一种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，对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H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α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受体作用轻微，相应不良反应亦少。其疗效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差异不大，但其治疗缓解率优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为抑郁症、伴焦虑症状的抑郁障碍及广泛性焦虑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600280" y="260280"/>
            <a:ext cx="58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N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消除半衰期大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治疗范围之内其药代动力学参数与剂量成正比。以盐酸度洛西汀代谢产物形式经尿液排出，大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经粪便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最小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治疗剂量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般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快速释放剂型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服；缓释胶囊每粒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日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脑内多巴胺能神经通路的分布及主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黑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纹状体系统：是锥体外系运动功能的高级中枢，主要调控锥体外系运动功能，该通路所含有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占全脑含量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边缘系统：调控情绪和感情表达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质系统：调节认知、思想、感觉、理解和推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漏斗系统：调控垂体激素的分泌和体温调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延髄化学感受区：调控呕吐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77080" y="404640"/>
            <a:ext cx="23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文拉法辛安全性好，不良反应少，常见不良反应有恶心、口干、出汗、乏力、焦虑、震颤、阳痿和射精障碍。不良反应的发生与剂量有关，大剂量时可引起血压升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特殊禁忌证，严重肝、肾疾病，高血压，癫痫患者应慎用。禁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其他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激活药联用，避免出现中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羟色胺综合征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708520" y="26028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29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患者慎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缓慢停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如骤然停药，可出现停药综合征（恶心、头晕、失眠、紧张、多汗、腹泻等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16012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米氮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rta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瑞美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度洛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ul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米那普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lnacipr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229440" y="476280"/>
            <a:ext cx="32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安非他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upropi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奈法唑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fazo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圣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约翰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int John‘s wo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提取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003640" y="333360"/>
            <a:ext cx="39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其他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72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抗躁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概述                                                         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心境稳定剂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mood stabilizer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指能够治疗急性躁狂，同时又可以有效的预防反复心境障碍发作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临床常用的心境稳定剂有三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卡马西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丙戊酸钠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抑制腺苷酸环化酶而抑制环磷酸腺苷（</a:t>
            </a:r>
            <a:r>
              <a:rPr b="1" lang="en-US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cAMP</a:t>
            </a: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）的形成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消弱各种肌醇脂衍生物的形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影响许多神经递质通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是躁狂发作的首选药物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预防躁狂和抑郁复发，尤其是双相情感障碍的抑郁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与抗抑郁剂合用对部分难治性抑郁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901800" y="1211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碳酸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口服吸收快而完全。单次服药后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或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（缓释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血药浓度达峰值。在成人体内的半衰期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少年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老年人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。本品绝大部分经肾排出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可由肾小管重吸收，随年龄减慢排泄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急性期治疗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控制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2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具体以临床疗效和血锂浓度来调整剂量，小剂量开始，逐渐增加，饭后口服，建议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天内逐渐增加达治疗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维持治疗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一般剂量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维持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维持用药期间，患者应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门诊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35032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良反应</a:t>
            </a: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长期使用锂盐不会产生依赖，也没有戒断反应，但在治疗期间会出现各种不良反应。不良反应的发生频率和严重程度与患者的年龄、服用剂量、血浆锂水平、疗程及个体易感性有关，常见不良反应，见下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95280" y="3357720"/>
          <a:ext cx="8610480" cy="2685960"/>
        </p:xfrm>
        <a:graphic>
          <a:graphicData uri="http://schemas.openxmlformats.org/drawingml/2006/table">
            <a:tbl>
              <a:tblPr/>
              <a:tblGrid>
                <a:gridCol w="2087640"/>
                <a:gridCol w="6522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系   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        </a:t>
                      </a: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临 床 表 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35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神经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震颤，无力，记忆受损，共济运动失调，构音障碍，抽搐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369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泌尿系统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液体平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排尿增加伴尿浓缩能力下降，烦渴，水肿，尿崩症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胃肠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肝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味觉改变，食欲减退，恶心，呕吐，腹泻，体重增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47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内分泌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伴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TSH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增加的甲状腺素降低，甲状旁腺功能亢进（罕见），甲状腺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白细胞增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心血管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ECG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变化（通常是良性改变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皮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痤疮，脱发，牛皮癣加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碳酸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禁忌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5280" y="1428840"/>
            <a:ext cx="82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禁忌证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肾衰竭及肾脏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新近发作的心衰或急性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腹泻、并改变了电解质的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脏传导阻滞、室性早搏和病窦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缺钠或低盐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帕金森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早期、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预防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  严格掌握治疗的适应症和禁忌证，正确调整剂量，密切临床观察，特别要关注可能的不良反应，监测血锂浓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早期中毒症状有反复出现的呕吐和腹泻、手细颤变为粗颤、无力、困倦、烦燥不安和轻度意识障碍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典型的锂盐中毒的临床特征是急性脑器质性综合征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表现不同程度的意识障碍，伴有构音障碍、共济失调、反射亢进、锥体束征等神经系统症状和体征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按照其化学结构不同分为四类： 酚噻嗪类、硫杂蒽类、丁酰苯类及苯甲酰胺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药理作用及临床应用相似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主要通过作用于大脑的多巴胺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受体，阻断该受体而发挥其抗精神病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临床上能有效的改善精神分裂症的阳性症状，如幻觉、妄想、兴奋冲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但由于其药物不良反应发生率较高，特别是锥体外系的不良反应，且在疗效上也存在着局限性，目前临床已较少使用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219640" y="4618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999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治疗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尚无特殊解毒剂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立即停药和清除过多的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静脉滴注生理盐水、重碳酸钠、茶碱和甘露醇有利锂的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病情危重时应血液透析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必要时反复应用，使血锂保持在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.0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以下。同时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小时监测血锂浓度，以检验是否有效。其他为支持疗法和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56800" y="260280"/>
            <a:ext cx="80773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全面评估检查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肾功能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情况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鼓励患者多饮水，多吃咸的食物以增加钠的摄入（锂离子与钠离子在近曲小管竞争重吸收，增加钠摄入可促进锂排除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密切观察反应，及时识别锂中毒先兆表现。血锂浓度一般不宜超过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1.5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发现异常及时记录并报告医生减药或停药。通常在服药的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进行首次测定，随后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内每周测一次，达到稳态浓度后可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测一次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477120" y="-114480"/>
            <a:ext cx="26668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卡马西平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carbamazepine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卡马西平最早引入临床是作为抗惊药，目前仍是广泛使用的抗癫痫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双相障碍急性躁狂发作，尤其是那些对锂盐治疗效果差的和无法耐受锂盐不良反应的患者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还可作为锂盐治疗的辅助药物来增加前者的疗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丙戊酸盐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valproates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丙戊酸盐最初也是作为抗惊药而用于临床，近年来用于治疗双相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适应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快速循环心境障碍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禁忌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本品过敏者、严重肝肾疾病者、孕妇及血液病患。                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有胃肠不适、震颤、镇静和疲倦，以及体重增加和暂时性脱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焦虑药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anxiolytic drugs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一类用于消除或减轻焦虑、紧张、恐惧，稳定情绪和具有镇静催眠、抗惊厥作用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类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环酮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二氮卓类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benzodiazepines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药物目前已成为抗焦虑的首先药物，它除了能够有效地消除焦虑、紧张，稳定情绪和镇静催眠，同时还具有松弛骨骼肌、抗惊厥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代表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主要有劳拉西泮（罗拉）、奥沙西泮（舒宁）、氯硝西泮、地西泮（安定）及阿普唑仑（佳静安定、佳乐定）等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91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它主要作用于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γ-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）受体和苯二氮卓受体，通过促进抑制性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的神经传导而发挥其镇静、催眠和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治疗焦虑症、各型神经症、各种失眠及各种躯体疾病伴随出现的焦虑、紧张、失眠、自主神经紊乱等症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状</a:t>
            </a:r>
            <a:r>
              <a:rPr b="1" lang="en-US" sz="2400" spc="-1" strike="noStrike">
                <a:solidFill>
                  <a:srgbClr val="0d0d0d"/>
                </a:solidFill>
                <a:latin typeface="仿宋"/>
                <a:ea typeface="仿宋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  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癫痫治疗和酒依赖戒断症状的替代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714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苯二氮卓类口服吸收迅速而完全，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达高峰。地西泮脂溶性高，易通过血脑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抗焦虑作用常在白天用药，每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，多数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内见效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显效，如果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仍无明显疗效时，应换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571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嗜睡、头昏、乏力和记忆力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大剂量时偶见共济失调、吐词不清、严重时出现脱抑制表现，如失眠、出汗、呼吸抑制、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久服可发生依赖和成瘾，停用可出现反跳和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人、肝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肾功能衰竭者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阻塞性呼吸疾病者、严重意识障碍者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及哺乳期妇女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163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熟悉不同药物的特性，又要结合患者特点，不提倡两种以上药物同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长期用药产生的依赖性 ，由于该药容易产生耐受性，长期应用会产生依赖性，因此不能长期使用。用药时间不宜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，对治疗慢性焦虑患者长期服用时，长期连续用药不能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个月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观察药物的不良反应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1280" y="119664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初中文化，汉族，已婚。主诉：凭空闻声，疑心被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余，伴自杀，睡眠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现病史：患者无明显诱因出现担心害怕，怀疑有人监视他，不敢出门，常独自发笑，有时自言自语；觉得有人在他耳边说话；认为药物有毒，家中食物有毒，并称是母亲下的毒，跟母亲争吵；说家人不了解他，欲点燃自己房间自杀，被家人发现并及时制止。家人难护理随送院治疗，父母两系三代内无精神疾病者。精神检查：意识清晰，情绪不稳定，激动，认为自己没有病，不应该住院。医疗诊断：偏执型精神分裂症。给予氯丙嗪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46840" y="50472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剪去单角的矩形 6"/>
          <p:cNvSpPr/>
          <p:nvPr/>
        </p:nvSpPr>
        <p:spPr>
          <a:xfrm>
            <a:off x="785880" y="5157720"/>
            <a:ext cx="7962840" cy="1200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试述氯丙嗪的药理作用及药理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应用氯丙嗪治疗应该注意观察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环酮类抗焦虑药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环酮类抗焦虑药物克服了苯二氮卓类药物的过度镇静、肌肉松弛及抗痉挛作用。缺点是起效慢，对重度焦虑效果差，不适用于惊恐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丁螺环酮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Buspirone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又称：布斯哌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499680"/>
            <a:ext cx="830592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是一种新型抗焦虑药。抗焦虑作用与地西泮相似，但不具有抗惊厥及肌肉松弛作用，无明显的镇静性与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本药在脑中侧缝际区与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羟色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(5-HT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高度结合，具有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d0d0d"/>
                </a:solidFill>
                <a:latin typeface="宋体"/>
                <a:ea typeface="宋体"/>
              </a:rPr>
              <a:t>1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激动作用，抗焦虑作用可能与此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丁螺环酮不与苯二氮卓受体亲和，也不对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产生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各种焦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9172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口服吸收好，首过效应明显。在肝中代谢，半衰期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剂量：口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，分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服用，首次剂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老人不应超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8001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主要不良反应有头晕、头痛、恶心、腹泻、出汗、兴奋及感觉异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对本药过敏者；严重肝肾功能不全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癫痫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急性闭角型青光眼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、哺乳期妇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、儿童及分娩前分娩中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焦虑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是目前临床上应用很广的抗焦虑药，如多塞平（多虑平）、氯米帕明，氟西汀、舍曲林、文拉法辛、曲唑酮、米氮平等均可选用。一般在用药头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0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左右会使焦虑症状加重和失眠加重，应同时合并服用苯二氮卓类药物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抑制剂类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苯乙肼、吗氯贝胺也可在治疗效果不好时选用，禁与其他类抗抑郁药合用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精神病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喹硫平和奥氮平，由于其镇静作用强，小剂量应用也可起到抗焦虑和促进睡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氯丙嗪 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hlorpromaz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6407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作用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可以迅速控制精神分裂症患者的兴奋症状，减少或消除幻觉、妄想，使思维活动及行为趋于正常。主要机制是阻断了与情绪有关的边缘系统的多巴胺受体所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降温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增强催眠、麻醉、镇静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扩血管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对内分泌有一定的影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精神病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用于控制精神分裂症或其他精神病的兴奋骚动、紧张不安、幻觉、妄想等症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几乎对各种原因引起的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低温麻醉、人工冬眠和中暑降温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加强镇痛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心力衰竭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尚可加强催眠药和降压药的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也可用于酒精戒断综合征、子痫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867280" y="40464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39:21Z</dcterms:modified>
  <cp:revision>34</cp:revision>
  <dc:subject/>
  <dc:title>第十章 治疗精神失常药</dc:title>
</cp:coreProperties>
</file>